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C51-DD09-4168-9610-9FE2B98E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4E2-5E06-4E37-A761-C6FFD52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984-2064-40A1-90A0-A77514ED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7C8-E340-4FC4-8A29-1FF1BD1A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E1B-A4C8-47FC-8C88-9DB498C1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392-E36A-485D-9575-21C3454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A30-336D-4E02-B996-F20511F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721-AB8C-4FAC-A7AE-66E4726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CAE-7F11-4D95-BF85-1EAE7BC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4DD-C23C-4818-8312-7ED0C93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75A-42A0-4174-A7B4-2970698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A9F-044E-4EDC-AD96-5E37F88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980E-6C07-4419-8C61-95E60EC8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10-15 dec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52592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0:04:10Z</dcterms:modified>
  <cp:revision>1</cp:revision>
  <dc:subject/>
  <dc:title>Curs valutar</dc:title>
</cp:coreProperties>
</file>